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4.png" ContentType="image/png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applaus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F9DC-4C89-4F4B-B8E4-4862FA7CD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8C7-BCCA-4798-90B6-54D1F2A9C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BFAC-DC51-4522-A080-6ABED28B1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C59-4105-4812-9384-CD929BD7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1D1-D136-4D28-AE69-A1CA501D1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E02C-3C36-4395-BEFB-B371BBE57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111-CBD6-41DD-8D4D-99A691EEA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097-CE51-43A3-A375-4F865321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C7D-DBD2-4C99-80B7-ECD4D957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351-BF3A-457E-8F63-7F0D9285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936-4288-4D2E-BA73-CAD36158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4D5-3093-4317-9C23-FD49DDBA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9D2-706C-4639-87BA-FB641A5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1C6-7C77-461E-AA19-BFEB0665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AA8-836B-4DAE-A343-00B31A7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D62-18A4-4311-8A8F-B2C567AB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740-98E3-4A32-904F-7FC3DEB2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A33-0714-4BF9-8AD4-0C2C9F7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226-CF04-4298-819B-DC1BC42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0F64-B16F-4808-A4C4-33CE5417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is%20is%20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5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6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6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6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7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8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8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8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49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59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0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0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0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1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1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2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2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3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3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image" Target="../media/image5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determine the probability that an offspring will inherit a particular trait from it’s par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factors that determine an individuals tra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bserved trait during Mendel’s research, represented by a capital l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minant tra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rait that disappeared during Mendel’s research, represented by a lower-case le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essive tra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abel of the original pair of plants used by Mende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(Parental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abel given to the first generation of offspring by Mend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1( First fili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ndividuals self-pollinate and create offspring identical to them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e-bree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ikelihood that a particular event will hap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ffspring of crosses between parents with different tra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bri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assing on of characteristics from parents to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red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istory of 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unnett Squ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ndel’s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otpour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characteristics that vary from one organism to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i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orms of genes (Ex. Tall or short pla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e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ross that involves only one tr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ohybrid cr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ss that involves two tra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hybrid cr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B is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ype of organism that Gregor Mendel conducted his research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mozygous domin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b is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9144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ozygous recessi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b is conside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terozyg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alleles contribute to the offspring’s phen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-domin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w that states that some alleles are dominant and others are recess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w of Domin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lleles are not completely dominant over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Pea Pl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w that states that genes for different traits are inherited independently from each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w of Independent Assort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w stating that allele pairs separate during gamete formation and randomly unite at fertiliz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aw of Segreg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y an organisms looks-- it’s physical appear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enetic make-up of an individ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le part of the f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son who first predicted how traits are transferred from on generation to the nex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ries genetic material-- humans have 23 pairs of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its that are controlled by two or more ge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ygen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enotypic ratio of a parental cross ( BB x b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914400" y="24382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4:0?  (4 B_:0 b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 What is 0:4:0? (0 BB:4Bb:0b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00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Gregor Mend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anch of Biology that studies hered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Genetic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lrobinson</cp:lastModifiedBy>
  <dcterms:modified xsi:type="dcterms:W3CDTF">2008-06-17T17:12:55Z</dcterms:modified>
  <cp:revision>55</cp:revision>
  <dc:subject/>
  <dc:title>No Slide Title</dc:title>
</cp:coreProperties>
</file>